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DD6-CDAF-4F29-AD5C-77184260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9BF-A7AA-4108-9076-156F523D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9B9-72F1-4869-B758-55A15FE8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659-0CE2-451D-B56C-D57DC7AF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05D9-DFEB-40E2-B75C-C5E9BE5D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0602-9F57-4FD6-A57E-D85A16E2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3747-4B4E-41D0-91B4-C5887704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D18A-0794-4FF5-A52A-139F51EA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0388-7912-439D-AAC2-D3A393C5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D22D-1934-4606-9886-A7A7D459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C7E0-D92B-4D2D-AC44-D152FB82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2F0-4865-477F-B606-53C5E235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5754-63A2-4995-8958-6D5CE2E4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2615-697E-4A80-800C-B628E648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88A2-2C8B-4E39-884E-9E97F4E0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5FEE-69D2-4CBD-904D-DFAFF9D0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9FCC-30E6-4BCA-A3DF-03F92ED8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6CB-9A62-49A9-B15C-EE47BA47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A5D-6292-40DF-B5E3-E55CB32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A71-9CB7-467F-AE7E-9EEC78F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FFD-35E6-4E54-B41A-C8EB5EAC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398-4DEB-4B10-8910-23603D7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CC2-257C-4FBA-AFAF-BE7C5FCD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974-7C90-43E2-A671-9A2A37A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8271-6633-42C3-967A-673C03866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BA56-A11B-431A-8F23-73027A3A2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rtfolio of Nicole Chav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NER POR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943600" cy="3935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6067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BY PIC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4674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EE OPTION #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 PHO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228600" y="83808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TOGRA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038840" cy="2765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43434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HO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4114800" cy="2705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2381040" cy="3581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30243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NER PROJE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078440" cy="2679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40784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EE CHOICE #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4008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F PORTRA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267440" cy="2851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2674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GHT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940200" cy="2514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3809880" cy="2692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3929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57146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962520" cy="2803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04920" y="3173400"/>
            <a:ext cx="3733560" cy="2522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105520" y="152280"/>
            <a:ext cx="2503440" cy="3581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411480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ER DRO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081320" cy="2647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114800" cy="2639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4495680" y="3809880"/>
            <a:ext cx="40388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35:05Z</dcterms:created>
  <dc:creator>bal_nmchaves</dc:creator>
  <dc:description/>
  <dc:language>en-US</dc:language>
  <cp:lastModifiedBy>C</cp:lastModifiedBy>
  <dcterms:modified xsi:type="dcterms:W3CDTF">2009-05-22T22:14:46Z</dcterms:modified>
  <cp:revision>6</cp:revision>
  <dc:subject/>
  <dc:title>Portfolio of Nicole Chaves</dc:title>
</cp:coreProperties>
</file>